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F35B-8BBD-47AE-AEBF-BB6FB8FAA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FCE-24A7-4832-8BA8-65FDCBEB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4FE-C400-4D70-AAA0-7A4AF2DB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05F9-AE0B-4D27-9631-1E4BD55B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302A-F562-430F-8200-47999F063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A74E-04FD-4B84-B94A-89ABF5F1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40DC-97CB-4E1F-A82E-336A345C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2FB0-F769-46C0-A9A6-741D67FB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F4F6-1DD7-433A-A114-A6E6960A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8F030-0FFB-4460-9145-FC08689A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2638-8D92-4C42-8FA3-2A345B8A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56D-B023-4CCE-BFBF-1D507485D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98846-FBFD-4E0F-B654-55264871F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1DBF-AA28-4FAE-8428-3FD785AF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BAEFA-922A-48F1-A80B-375F9AA5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540E-5951-4DA5-925C-4DF705FBD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BBFC-1905-4BE5-8752-FFB67E9DD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5A036-6F96-48E5-88E3-F6387703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9E036-C6AF-4CFB-994F-52EAE674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51F73-69EC-4CAB-9B8A-3D30CEDE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CADC-BA6C-4FED-97F4-B02E7A7C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4A60-A4D1-443A-8F7E-343EB882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B6A-F001-431E-84BB-B5ADC57D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CB804-AFA3-495A-86D1-F8D34583C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CE46D-3016-47F2-BC7F-64A8D5E0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AC5AF-F183-42EA-BF5D-A73EB17A9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78A22-6842-41E1-B4F5-2F2270A0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875D0-8093-40D5-B69B-4C646603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386F6-62A1-4157-B69C-14DF8362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D6A2F-ECA5-45ED-9366-006C6C7B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854B4-E84D-4987-B307-4B337861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FBC1E-7E6C-4140-B2BA-B6A30326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B4EC3-AC38-49EA-87C4-83DA66BC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D1BF-8492-479D-889A-3638051B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9817-B903-42DF-ACFF-7A84DFE7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AE2E0-55A9-4410-9E6D-22845F24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F9C46-C5B9-4F8E-B782-051B114B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5C546-7DAA-49C8-881D-BB91C614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B785C-35EC-4D65-B5AA-6ABBC130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B95C1-E43C-4F19-B31B-BFCF9AB4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BF4DC-7F6A-4231-9461-ECB5FC3D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4D4A6-FF5A-45D6-9662-1B030530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261AB-A7D4-4783-9004-C9C03812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6311A-8FEC-4EF2-A03D-5E3228ED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31E0-7B3F-4DD3-9A22-A3CCAD33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8B6DC-D2F0-4B5B-BF0D-F49A06B4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B5B0F-3EA9-4AFC-BF3D-468C3BC3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5B9B1-713B-4AC5-B6EC-551FD3F3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ABBBA-9207-4D67-B417-64FBFF76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D584A-2351-4944-9A56-5E4E204B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FDFA1-FD1A-404B-9423-3CC348A9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EF10-E47E-496D-B710-7D241315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755F2-E05C-4BBE-8617-9355E5A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05AE-C41E-45D6-8610-FCF73745C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5FD76-AC8B-41A1-BA5A-2C26040FB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B7E9-049D-4CC0-B13A-6A877CA4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811C2E-4FDE-40CE-B1EB-77DEE47B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AA3A-BFBF-4A0F-B78E-1B5EA2AB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EF9-49D6-4FF2-8EAE-47A3ED08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7A42-C813-4B19-B5F1-D4008958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9BF7-1C0B-414D-A92A-5F2452901ACA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4F91-5E57-4F90-9122-0CCA00211AFB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BFE6-D674-4B65-8712-7CF249964C50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FFCF-7CDC-43FB-B351-8AD426B9CC46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2FA5-925C-4B9B-88C0-DDE4B8E3CC20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500" spc="-1" strike="noStrike">
                <a:solidFill>
                  <a:srgbClr val="ff8d3e"/>
                </a:solidFill>
                <a:latin typeface="Verdana"/>
              </a:rPr>
              <a:t>Obsolescencia del hardware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79766f"/>
                </a:solidFill>
                <a:latin typeface="Verdana"/>
              </a:rPr>
              <a:t>Tis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79766f"/>
                </a:solidFill>
                <a:latin typeface="Verdana"/>
              </a:rPr>
              <a:t>Jim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79766f"/>
                </a:solidFill>
                <a:latin typeface="Verdana"/>
              </a:rPr>
              <a:t>BI 1-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El problema de Tántalo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Tantalio o Tántalo es un polvo metálico gris que pos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s especiales características físicas y químicas. Es Un metal refractario que presenta cualidades muy valoradas hoy día: es ta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istente a la corrosión como el vidrio; extremadamente dúctil y maleable, permite s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blado, enrollado, soldado; además se utiliza en aleacione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 objeto de obtener materiales resistentes a muy al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mperatur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8d3e"/>
                </a:solidFill>
                <a:latin typeface="Verdana"/>
              </a:rPr>
              <a:t>En el hardware:</a:t>
            </a:r>
            <a:br>
              <a:rPr sz="3600"/>
            </a:b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 utiliza en alea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gran capacidad para regular el voltaje y almacenar energí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utilizándose el polvo de tantalio para fabricar los llamados "capacitares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fabricación de fibra óptica, equipos electrónicos, los misiles balísticos, y cohetes espaciales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8d3e"/>
                </a:solidFill>
                <a:latin typeface="Verdana"/>
              </a:rPr>
              <a:t>Aspectos económicos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</a:rPr>
              <a:t>Es uno de los metales mas caros del mundo, se utiliza en casi todos los aparatos electrónic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tantalio es considerado como uno de los recursos estratégicos m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importantes del nuevo sigl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8d3e"/>
                </a:solidFill>
                <a:latin typeface="Verdana"/>
              </a:rPr>
              <a:t>Aspectos psicológico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fiebre del tántalo ha empujado a miles de mineros y esclavos al interior de l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arques nacionales de Kahuzi-Biega (en Kivu-Sur) y Okapi, en el este del Congo. Es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iles de personas se están asentado,  y matando animales salvajes para alimentarse, ya es que la única fuente de alime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8d3e"/>
                </a:solidFill>
                <a:latin typeface="Verdana"/>
              </a:rPr>
              <a:t>Aspectos políticos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tas zonas son reservas protegidas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claradas por la Unesco, Patrimonio de la Humanidad. Las excav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discriminadas,son ilegales y , han ocasionando dañ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rreparables al ecosistema. El director general de World Wide Fund for Nature (WWF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laude Martin, declaró en mayo de este año a un diario surafricano: 'Es u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rresponsabilidad que afecta a todos, desde mineros hasta grandes multinacionales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ben mirar más allá de los beneficios y pensar en el bien gener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8d3e"/>
                </a:solidFill>
                <a:latin typeface="Verdana"/>
              </a:rPr>
              <a:t>Aspectos sociales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tre las consecuencias de la extracción de coltán en la RDC, destaca un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tuación de guerra constante, caracterizada por un gran número de conflictos entre l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stintas guerrillas establecidas en el paí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la RDC también existen dos claras situaciones de violación de los derech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humanos, provocadas por la extracción de coltán, como son la esclavitud y 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lotación infanti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8d3e"/>
                </a:solidFill>
                <a:latin typeface="Verdana"/>
              </a:rPr>
              <a:t>Aspectos medioambientales: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</a:rPr>
              <a:t>Disminución de los bosques por la tala de árbo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</a:rPr>
              <a:t>La población de elefantes se a disminuido drásticamente, así como la población de gorila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Verdana"/>
              </a:rPr>
              <a:t>Se han erosionado los suelos y se han contaminado ríos subterráneos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8:59:49Z</dcterms:created>
  <dc:creator>e02-0730</dc:creator>
  <dc:description/>
  <dc:language>en-US</dc:language>
  <cp:lastModifiedBy>e02-0730</cp:lastModifiedBy>
  <dcterms:modified xsi:type="dcterms:W3CDTF">2009-04-14T18:31:10Z</dcterms:modified>
  <cp:revision>4</cp:revision>
  <dc:subject/>
  <dc:title>Obsolescencia del hardware</dc:title>
</cp:coreProperties>
</file>